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1B1-951C-460A-9CA8-B4465D40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DC7-D3A1-4ABC-BE7F-E151B6F2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DE9-3054-4C2A-9A54-A7049403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2DF-2DE8-4820-A2BB-9618DEB65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3C1-4A13-4C2E-8370-10BA56C5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EC3-DAE1-4277-9068-047E5327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B42-2A44-46B6-BC55-622FF155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C89-C70A-4CEC-B99D-0A9AFD1C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96A-9242-4E47-BD5F-FD8835B5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BCF7-88D1-4BEF-B621-33097A40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FB7-C389-4826-A681-20B6593B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8B2-9581-4D17-A1D0-573E8A8B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F668-99D6-4024-85C9-32C63560D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Growth of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Territorial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"/>
          <p:cNvGrpSpPr/>
          <p:nvPr/>
        </p:nvGrpSpPr>
        <p:grpSpPr>
          <a:xfrm>
            <a:off x="3886200" y="3048120"/>
            <a:ext cx="5029200" cy="3608280"/>
            <a:chOff x="3886200" y="3048120"/>
            <a:chExt cx="5029200" cy="3608280"/>
          </a:xfrm>
        </p:grpSpPr>
        <p:pic>
          <p:nvPicPr>
            <p:cNvPr id="45" name="Picture 4" descr="map1"/>
            <p:cNvPicPr/>
            <p:nvPr/>
          </p:nvPicPr>
          <p:blipFill>
            <a:blip r:embed="rId1"/>
            <a:stretch/>
          </p:blipFill>
          <p:spPr>
            <a:xfrm>
              <a:off x="3886200" y="3048120"/>
              <a:ext cx="5029200" cy="36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800100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FrutigerBold"/>
                </a:rPr>
                <a:t>A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47" name="Text Box 6"/>
          <p:cNvSpPr/>
          <p:nvPr/>
        </p:nvSpPr>
        <p:spPr>
          <a:xfrm>
            <a:off x="1447920" y="1143000"/>
            <a:ext cx="19810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When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447920" y="2057400"/>
            <a:ext cx="22096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From Where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447920" y="3048120"/>
            <a:ext cx="17524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Why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828800" y="1600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1776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6576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828800" y="25146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Great Britain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447920" y="3657600"/>
            <a:ext cx="213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US declared independence from Great Britain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181480" y="1371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A - 13 Original Colonie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map2"/>
          <p:cNvPicPr/>
          <p:nvPr/>
        </p:nvPicPr>
        <p:blipFill>
          <a:blip r:embed="rId1"/>
          <a:stretch/>
        </p:blipFill>
        <p:spPr>
          <a:xfrm>
            <a:off x="3884760" y="3043080"/>
            <a:ext cx="5030640" cy="3610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Territorial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001000" y="39625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FrutigerBold"/>
              </a:rPr>
              <a:t>A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447920" y="1143000"/>
            <a:ext cx="1981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When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447920" y="2057400"/>
            <a:ext cx="22096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From Where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447920" y="3048120"/>
            <a:ext cx="17524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Why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828800" y="1600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1783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6576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1828800" y="2514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Great Britain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219320" y="35812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Gained in Treaty of Paris (ended Revolutionary War)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238880" y="44197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5181480" y="1371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B - Western Land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ap35"/>
          <p:cNvPicPr/>
          <p:nvPr/>
        </p:nvPicPr>
        <p:blipFill>
          <a:blip r:embed="rId1"/>
          <a:stretch/>
        </p:blipFill>
        <p:spPr>
          <a:xfrm>
            <a:off x="3886200" y="3048120"/>
            <a:ext cx="5029200" cy="3608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Territorial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8001000" y="39625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FrutigerBold"/>
              </a:rPr>
              <a:t>A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447920" y="1143000"/>
            <a:ext cx="1981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When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447920" y="2057400"/>
            <a:ext cx="22096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From Where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447920" y="3048120"/>
            <a:ext cx="17524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Why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828800" y="1600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1803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36576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828800" y="2514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Franc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990720" y="3581280"/>
            <a:ext cx="2971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Jefferson wanted to buy New Orlean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apoleon needed $$$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He got all of this instead!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7238880" y="44197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181480" y="1371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C - Louisiana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Purchas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6095880" y="41911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FrutigerBold"/>
              </a:rPr>
              <a:t>C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ap4"/>
          <p:cNvPicPr/>
          <p:nvPr/>
        </p:nvPicPr>
        <p:blipFill>
          <a:blip r:embed="rId1"/>
          <a:stretch/>
        </p:blipFill>
        <p:spPr>
          <a:xfrm>
            <a:off x="3884760" y="3043080"/>
            <a:ext cx="5030640" cy="3610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Territorial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001000" y="39625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FrutigerBold"/>
              </a:rPr>
              <a:t>A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447920" y="1143000"/>
            <a:ext cx="1981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When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447920" y="2057400"/>
            <a:ext cx="22096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From Where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447920" y="3048120"/>
            <a:ext cx="17524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Why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828800" y="1600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1819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6576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828800" y="2514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Spain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828800" y="3581280"/>
            <a:ext cx="2133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Andrew Jackson invaded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Spain then sold it to us for $5 million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7238880" y="44197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5181480" y="1371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D - Florida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8763120" y="56386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FrutigerBold"/>
              </a:rPr>
              <a:t>D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 flipH="1">
            <a:off x="8381520" y="5867280"/>
            <a:ext cx="381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6095880" y="41911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FrutigerBold"/>
              </a:rPr>
              <a:t>C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map5"/>
          <p:cNvPicPr/>
          <p:nvPr/>
        </p:nvPicPr>
        <p:blipFill>
          <a:blip r:embed="rId1"/>
          <a:stretch/>
        </p:blipFill>
        <p:spPr>
          <a:xfrm>
            <a:off x="3884760" y="3043080"/>
            <a:ext cx="5030640" cy="3610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Territorial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001000" y="39625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FrutigerBold"/>
              </a:rPr>
              <a:t>A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38080" y="1143000"/>
            <a:ext cx="1981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When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990720" y="2057400"/>
            <a:ext cx="22096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From Where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838080" y="3033720"/>
            <a:ext cx="17528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Why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219320" y="1593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1845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6576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219320" y="25146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Republic of Texas (Independent Country)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1066680" y="3581280"/>
            <a:ext cx="28958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Texas independent from Mexico in 1836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Northerners feared it would become a slave state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7238880" y="44197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5181480" y="1371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E - Texa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8763120" y="56386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FrutigerBold"/>
              </a:rPr>
              <a:t>D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 flipH="1">
            <a:off x="8381520" y="5867280"/>
            <a:ext cx="381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6095880" y="41911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FrutigerBold"/>
              </a:rPr>
              <a:t>C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6095880" y="54100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FrutigerBold"/>
              </a:rPr>
              <a:t>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ing Ques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0000"/>
                </a:solidFill>
                <a:latin typeface="Arial"/>
              </a:rPr>
              <a:t>Why weren</a:t>
            </a:r>
            <a:r>
              <a:rPr b="1" lang="ja-JP" sz="39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1" lang="en-US" sz="3900" spc="-1" strike="noStrike">
                <a:solidFill>
                  <a:srgbClr val="cc0000"/>
                </a:solidFill>
                <a:latin typeface="Arial"/>
              </a:rPr>
              <a:t>t Americans happy with the size of their country at this point in their histor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map6"/>
          <p:cNvPicPr/>
          <p:nvPr/>
        </p:nvPicPr>
        <p:blipFill>
          <a:blip r:embed="rId1"/>
          <a:stretch/>
        </p:blipFill>
        <p:spPr>
          <a:xfrm>
            <a:off x="3884760" y="3043080"/>
            <a:ext cx="5030640" cy="3610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Territorial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001000" y="39625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FrutigerBold"/>
              </a:rPr>
              <a:t>A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447920" y="1143000"/>
            <a:ext cx="1981080" cy="459720"/>
          </a:xfrm>
          <a:prstGeom prst="rect">
            <a:avLst/>
          </a:prstGeom>
          <a:solidFill>
            <a:srgbClr val="0083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utigerBold"/>
              </a:rPr>
              <a:t>When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447920" y="2057400"/>
            <a:ext cx="2209680" cy="459720"/>
          </a:xfrm>
          <a:prstGeom prst="rect">
            <a:avLst/>
          </a:prstGeom>
          <a:solidFill>
            <a:srgbClr val="0083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utigerBold"/>
              </a:rPr>
              <a:t>From Where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447920" y="3048120"/>
            <a:ext cx="1752480" cy="459720"/>
          </a:xfrm>
          <a:prstGeom prst="rect">
            <a:avLst/>
          </a:prstGeom>
          <a:solidFill>
            <a:srgbClr val="0083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utigerBold"/>
              </a:rPr>
              <a:t>Why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828800" y="1600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1846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6576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824120" y="2514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Great Britain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990720" y="3581280"/>
            <a:ext cx="30477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Claimed by four countries (G. Britain, Russia, Spain, &amp; US)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Americans demanded </a:t>
            </a:r>
            <a:r>
              <a:rPr b="1" lang="ja-JP" sz="2400" spc="-1" strike="noStrike">
                <a:solidFill>
                  <a:srgbClr val="c00000"/>
                </a:solidFill>
                <a:latin typeface="FrutigerBold"/>
              </a:rPr>
              <a:t>“</a:t>
            </a: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54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°</a:t>
            </a: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 40</a:t>
            </a:r>
            <a:r>
              <a:rPr b="1" lang="ja-JP" sz="2400" spc="-1" strike="noStrike">
                <a:solidFill>
                  <a:srgbClr val="c00000"/>
                </a:solidFill>
                <a:latin typeface="FrutigerBold"/>
              </a:rPr>
              <a:t>’</a:t>
            </a: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 or fight!</a:t>
            </a:r>
            <a:r>
              <a:rPr b="1" lang="ja-JP" sz="2400" spc="-1" strike="noStrike">
                <a:solidFill>
                  <a:srgbClr val="c00000"/>
                </a:solidFill>
                <a:latin typeface="FrutigerBold"/>
              </a:rPr>
              <a:t>”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Britain compromised 49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°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&amp; US accepted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7238880" y="44197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5181480" y="1371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38c"/>
                </a:solidFill>
                <a:latin typeface="FrutigerBold"/>
              </a:rPr>
              <a:t>F - Oregon Territor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8763120" y="56386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FrutigerBold"/>
              </a:rPr>
              <a:t>D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8381520" y="5867280"/>
            <a:ext cx="381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6095880" y="41911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FrutigerBold"/>
              </a:rPr>
              <a:t>C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6095880" y="54100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FrutigerBold"/>
              </a:rPr>
              <a:t>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419720" y="36576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38c"/>
                </a:solidFill>
                <a:latin typeface="FrutigerBold"/>
              </a:rPr>
              <a:t>F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map7"/>
          <p:cNvPicPr/>
          <p:nvPr/>
        </p:nvPicPr>
        <p:blipFill>
          <a:blip r:embed="rId1"/>
          <a:stretch/>
        </p:blipFill>
        <p:spPr>
          <a:xfrm>
            <a:off x="4113360" y="2843280"/>
            <a:ext cx="5030640" cy="3608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Territorial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8191440" y="39625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FrutigerBold"/>
              </a:rPr>
              <a:t>A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43080" y="1143000"/>
            <a:ext cx="1981080" cy="459720"/>
          </a:xfrm>
          <a:prstGeom prst="rect">
            <a:avLst/>
          </a:prstGeom>
          <a:solidFill>
            <a:srgbClr val="b26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utigerBold"/>
              </a:rPr>
              <a:t>When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84040" y="2073240"/>
            <a:ext cx="2210040" cy="459720"/>
          </a:xfrm>
          <a:prstGeom prst="rect">
            <a:avLst/>
          </a:prstGeom>
          <a:solidFill>
            <a:srgbClr val="b26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utigerBold"/>
              </a:rPr>
              <a:t>From Where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24000" y="3059280"/>
            <a:ext cx="1752480" cy="459720"/>
          </a:xfrm>
          <a:prstGeom prst="rect">
            <a:avLst/>
          </a:prstGeom>
          <a:solidFill>
            <a:srgbClr val="b26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utigerBold"/>
              </a:rPr>
              <a:t>Why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12640" y="16095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1848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6576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512640" y="2514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Mexico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28600" y="3524400"/>
            <a:ext cx="40384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Polk offers to buy G from Mexico &amp; they refus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War!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US win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In Treaty of Guadalupe Hidalgo, US offers $15 million for G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7389720" y="41752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5181480" y="1371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6684"/>
                </a:solidFill>
                <a:latin typeface="FrutigerBold"/>
              </a:rPr>
              <a:t>G - Mexican Cession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8763120" y="520056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FrutigerBold"/>
              </a:rPr>
              <a:t>D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 flipH="1">
            <a:off x="8458200" y="5483160"/>
            <a:ext cx="38088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6323040" y="41148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FrutigerBold"/>
              </a:rPr>
              <a:t>C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6033960" y="4995720"/>
            <a:ext cx="28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FrutigerBold"/>
              </a:rPr>
              <a:t>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4610160" y="34290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38c"/>
                </a:solidFill>
                <a:latin typeface="FrutigerBold"/>
              </a:rPr>
              <a:t>F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4724280" y="43783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6684"/>
                </a:solidFill>
                <a:latin typeface="FrutigerBold"/>
              </a:rPr>
              <a:t>G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2:32:20Z</dcterms:created>
  <dc:creator>Staff</dc:creator>
  <dc:description/>
  <dc:language>en-US</dc:language>
  <cp:lastModifiedBy>Eagle Schools</cp:lastModifiedBy>
  <dcterms:modified xsi:type="dcterms:W3CDTF">2014-02-04T21:13:28Z</dcterms:modified>
  <cp:revision>7</cp:revision>
  <dc:subject/>
  <dc:title>Growth of U.S.</dc:title>
</cp:coreProperties>
</file>